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3.pct" ContentType="image/x-pict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993-DF3F-4761-87FB-ADE9835D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B58-45D1-4194-8126-F20B899F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9A7-21D8-4B12-8578-975391E5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455-DED0-4EBA-BC9C-3302E4D5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174-A8E0-4B08-8E79-68025B17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32A-37F6-436F-9DF2-3D0C9CA7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F85-5570-47C2-BA64-3B8D678A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7310-0021-4FDB-A593-8AC58A90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87F-6149-48BB-94EF-58193EAD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7D2-5BDA-4148-9AAC-72EDFDC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636-169B-4AFD-88DA-1A145CF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32D-2DF3-4926-8AEE-AF18FC8B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33F6-2A25-478A-A19D-11AD9C66A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9440" y="365040"/>
            <a:ext cx="7102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3480" y="289080"/>
            <a:ext cx="717840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Times New Roman"/>
              </a:rPr>
              <a:t>Chapter 31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Diseases and Disabiliti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01160" y="308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631800"/>
            <a:ext cx="698976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66"/>
                </a:solidFill>
                <a:uFillTx/>
                <a:latin typeface="Chalkboard Bold"/>
              </a:rPr>
              <a:t>Tumor:</a:t>
            </a:r>
            <a:r>
              <a:rPr b="0" lang="en-US" sz="2400" spc="-1" strike="noStrike">
                <a:solidFill>
                  <a:srgbClr val="ff6666"/>
                </a:solidFill>
                <a:latin typeface="Chalkboard Bold"/>
              </a:rPr>
              <a:t>  any mass of tissue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(all cancers are tumors but not all tumors are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extile"/>
              </a:rPr>
              <a:t>benign: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  a non-cancerous tu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99"/>
                </a:solidFill>
                <a:uFillTx/>
                <a:latin typeface="Playbill"/>
              </a:rPr>
              <a:t>malignant:</a:t>
            </a:r>
            <a:r>
              <a:rPr b="0" lang="en-US" sz="2400" spc="-1" strike="noStrike">
                <a:solidFill>
                  <a:srgbClr val="000000"/>
                </a:solidFill>
                <a:latin typeface="Playbil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a cancerous tumor that has no membrane to keep it localized, therefore allowing it to 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Britannic Bold"/>
              </a:rPr>
              <a:t>matastasis:</a:t>
            </a: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  the spread of cancer from its origination point to other parts of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8000"/>
                </a:solidFill>
                <a:uFillTx/>
                <a:latin typeface="Chalkboard"/>
              </a:rPr>
              <a:t>Causes of Cancer:</a:t>
            </a:r>
            <a:r>
              <a:rPr b="0" lang="en-US" sz="2400" spc="-1" strike="noStrike">
                <a:solidFill>
                  <a:srgbClr val="408000"/>
                </a:solidFill>
                <a:latin typeface="Chalkboard"/>
              </a:rPr>
              <a:t>  exposure to carcinogens in tobacco smoke, asbestos, and toxic waste.  Also, some forms of radiation like x-rays, radon, and ultraviolet rays from the s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344520"/>
            <a:ext cx="746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Some common forms of cancer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Skin Cancer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Most common cancer in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melanoma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:  the deadly type of skin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13372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57800" y="228600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048120" y="495288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495360"/>
            <a:ext cx="765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Lung Cancer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more common in sm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-  </a:t>
            </a: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85 %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of male smokers and </a:t>
            </a: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75 %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of female smo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20040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927680" y="1992240"/>
            <a:ext cx="215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extile"/>
              </a:rPr>
              <a:t>*Survival rate of lung can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extile"/>
              </a:rPr>
              <a:t>is only 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2120" y="722160"/>
            <a:ext cx="78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al Canc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cancer of the mouth and throa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More common in tobacco users and excessive alcohol drin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029200" y="4038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5800" y="4038480"/>
            <a:ext cx="289548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029200" y="16765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390600"/>
            <a:ext cx="7315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tencil"/>
              </a:rPr>
              <a:t>Other Common forms of cancer a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Impact"/>
              </a:rPr>
              <a:t>Colon and Rectum: 2nd most common cancers in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Reproductive Canc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Female: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breast,  cervical, uterine, and ov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449568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2670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Optima"/>
              </a:rPr>
              <a:t>Male:</a:t>
            </a: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testicular and prostate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4606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374760"/>
            <a:ext cx="6782040" cy="68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ff"/>
                </a:solidFill>
                <a:latin typeface="Rockwell"/>
              </a:rPr>
              <a:t>Leukemia: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 cancer of the blood-forming tissue in the bone marr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extile"/>
              </a:rPr>
              <a:t>Detecting and Treating Canc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66"/>
                </a:solidFill>
                <a:uFillTx/>
                <a:latin typeface="Techno"/>
              </a:rPr>
              <a:t>biopsy: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  a test of tissue to detect if cancerous cells ar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Palatino"/>
              </a:rPr>
              <a:t>Surgery:</a:t>
            </a:r>
            <a:r>
              <a:rPr b="0" lang="en-US" sz="2400" spc="-1" strike="noStrike">
                <a:solidFill>
                  <a:srgbClr val="333399"/>
                </a:solidFill>
                <a:latin typeface="Palatino"/>
              </a:rPr>
              <a:t>  the surgical removal of a cancerous tumor and affected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8000"/>
                </a:solidFill>
                <a:uFillTx/>
                <a:latin typeface="Optima"/>
              </a:rPr>
              <a:t>Radiation:</a:t>
            </a:r>
            <a:r>
              <a:rPr b="0" lang="en-US" sz="2400" spc="-1" strike="noStrike">
                <a:solidFill>
                  <a:srgbClr val="408000"/>
                </a:solidFill>
                <a:latin typeface="Optima"/>
              </a:rPr>
              <a:t>   The use of radioactive energy from cobalt or radium to penetrate a tumor and destroy the cancerous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halkboard Bold"/>
              </a:rPr>
              <a:t>Chemotherapy:  the use of anti-cancer medications to treat the growth of cancerous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59040" y="29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6680" y="495360"/>
            <a:ext cx="708660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40"/>
                </a:solidFill>
                <a:latin typeface="Textile"/>
              </a:rPr>
              <a:t>LESS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O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NONINFFECTIO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80"/>
                </a:solidFill>
                <a:latin typeface="Textile"/>
              </a:rPr>
              <a:t>DISEA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768240"/>
            <a:ext cx="7620120" cy="68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Chalkboard Bold"/>
              </a:rPr>
              <a:t>DIABETES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A Chronic Disease that affects the way body cells convert food into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Optima"/>
              </a:rPr>
              <a:t>Diabetes many times lead to other problems like blindness, kidney disease, amputations, nerve disease, heart disease and strok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Chalkboard Bold"/>
              </a:rPr>
              <a:t>When food enters the body, carbohydrates are changed to glucose, them absorbed into the blood and sent into cells.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When the pancreas does not produce insulin sufficiently,  the glucose is unable to enter the cells and it accumulates in the bloodstrea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Chalkboard Bold"/>
              </a:rPr>
              <a:t>A high level of sugar in the urine is one of the surest signs that a person has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41440"/>
            <a:ext cx="792468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Low Blood Sugar (Hypoglycemic)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         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High Blood Sugar(Hyperglyc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Time Span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Sudden Onse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Gradual Onset-hours to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Signs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:  Staggering, Poor coordination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Thirst, frequent urination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Irritability, hostility, pale color, sweating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flushe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kin, vomiting, fruit or 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unconsciousness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winelike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mell on breath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unconscious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Causes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delayed or missed meals, to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Undiagnosed Diabetes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much insulin, extreme exercise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forgotten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or omitted insulin,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stress, too much food or drink 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at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Palatino"/>
              </a:rPr>
              <a:t>Treatment: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  provide sugar, look for ID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Get them to a Doctor. If you”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bracelet, 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NO DIET DRINKS, if they do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not sure what type they are,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Palatino"/>
              </a:rPr>
              <a:t>not respond, get them to a doctor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provide sugar, if they do not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respond in 10-15 minutes, g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	</a:t>
            </a:r>
            <a:r>
              <a:rPr b="0" lang="en-US" sz="1800" spc="-1" strike="noStrike">
                <a:solidFill>
                  <a:srgbClr val="008040"/>
                </a:solidFill>
                <a:latin typeface="Palatino"/>
              </a:rPr>
              <a:t>them to a do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465120"/>
            <a:ext cx="7315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rthritis: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  a disease that covers at least 100 conditions that cause pain and swelling in joints and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cc00"/>
              </a:buClr>
              <a:buFont typeface="Cooper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Cooper Black"/>
              </a:rPr>
              <a:t>Rheumatoid Arthrit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destructive and disabling inflammation of the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2.  </a:t>
            </a:r>
            <a:r>
              <a:rPr b="0" lang="en-US" sz="2400" spc="-1" strike="noStrike">
                <a:solidFill>
                  <a:srgbClr val="99cc00"/>
                </a:solidFill>
                <a:latin typeface="Cooper Black"/>
              </a:rPr>
              <a:t>Osteoarthrit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affects primarily the weight-bearing joints of the knees and hips, causing aches and soreness, especially when mo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472428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057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353880"/>
            <a:ext cx="77724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Cardiovascular Disease (CVD’s):  medical disorders that affect the heart and blood vess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Textile"/>
              </a:rPr>
              <a:t>RISK FACTORS OF CARDIOVASCULAR DISEASE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redity- if one or both parents have heart disease or hypertension (high BP), the risk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8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Ethnicity:  African Americans are twice as lik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8000"/>
                </a:solidFill>
                <a:latin typeface="Times New Roman"/>
              </a:rPr>
              <a:t>to develop high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3.  Gender:  males have a greater risk of heart disease or stroke than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873000"/>
            <a:ext cx="7238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extile"/>
              </a:rPr>
              <a:t>Lesson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PHYS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A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MENT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ff"/>
                </a:solidFill>
                <a:latin typeface="Textile"/>
              </a:rPr>
              <a:t>CHALLE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692280"/>
            <a:ext cx="7696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8040"/>
                </a:solidFill>
                <a:uFillTx/>
                <a:latin typeface="Times New Roman"/>
              </a:rPr>
              <a:t>Dis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any physical or mental impairment that limits normal activities, including seeing, hearing, walking or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The leading cause of blindness today is complications from diabetes.  Other causes are macular degeneration, glaucoma, and catar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Hearing Impairment affects app. 20 million American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halkboard Bold"/>
              </a:rPr>
              <a:t>Profound Deafness:  hearing loss so severe that the person could not benefit from mechanical devices such as hearing a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04920"/>
            <a:ext cx="830592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extile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:  </a:t>
            </a:r>
            <a:r>
              <a:rPr b="0" lang="en-US" sz="2400" spc="-1" strike="noStrike">
                <a:solidFill>
                  <a:srgbClr val="008040"/>
                </a:solidFill>
                <a:latin typeface="Textile"/>
              </a:rPr>
              <a:t>below-average intellectual ability present from birth or early childhood and associated with difficulties in learning and social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Textile"/>
              </a:rPr>
              <a:t>4 levels of Mental Retardation:  mild, moderate, severe, and profound  </a:t>
            </a:r>
            <a:r>
              <a:rPr b="0" lang="en-US" sz="2400" spc="-1" strike="noStrike">
                <a:solidFill>
                  <a:srgbClr val="6666ff"/>
                </a:solidFill>
                <a:latin typeface="Textile"/>
              </a:rPr>
              <a:t>(75% of all mentally retarded Americans fall in the “mild” category) and are likely not to recognized in gene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halkboard Bold"/>
              </a:rPr>
              <a:t>Americans With Disabilities Act:</a:t>
            </a:r>
            <a:r>
              <a:rPr b="0" lang="en-US" sz="2000" spc="-1" strike="noStrike">
                <a:solidFill>
                  <a:srgbClr val="ff0000"/>
                </a:solidFill>
                <a:latin typeface="Chalkboard Bold"/>
              </a:rPr>
              <a:t>  a law prohibiting the discrimination against people with physical or mental disabilities in the workplace, transportation, public accomodations and tele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3888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220680"/>
            <a:ext cx="72388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ISK FACTORS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9cc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imes New Roman"/>
              </a:rPr>
              <a:t>Age:  55% of all heart attacks occur in people 65 and 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Environment:  Air pollution, tobacco smoke, and stress are also risk factors of CVD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81280"/>
            <a:ext cx="2834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5600" y="3506760"/>
            <a:ext cx="1638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38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3276720"/>
            <a:ext cx="1828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69720"/>
            <a:ext cx="725184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Sand"/>
              </a:rPr>
              <a:t>Types of Cardiovascular Dis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Textile"/>
              </a:rPr>
              <a:t>1.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onstant High Pressure):  App. 60 million Americans suffer from hy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trollable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risk factors are obesity, alcohol use, inactivity, smoking and excessive intake of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3733920"/>
            <a:ext cx="236196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4114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000"/>
                </a:solidFill>
                <a:latin typeface="Times New Roman"/>
              </a:rPr>
              <a:t>Hyper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“silent kill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463680"/>
            <a:ext cx="5857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Marker Felt"/>
              </a:rPr>
              <a:t>Diseases of the Arte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Cooper Black"/>
              </a:rPr>
              <a:t>2. Arteriosclerosis: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  </a:t>
            </a:r>
            <a:r>
              <a:rPr b="0" lang="en-US" sz="2400" spc="-1" strike="noStrike">
                <a:solidFill>
                  <a:srgbClr val="008040"/>
                </a:solidFill>
                <a:latin typeface="Cooper Black"/>
              </a:rPr>
              <a:t>Hardening of the Arteries- caused by a build up of plaque and cholesterol on artery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rteriosclerosis is the most common cause of death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1752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228600"/>
            <a:ext cx="7804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halkboard Bold"/>
              </a:rPr>
              <a:t>Diseases of the Hea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NGINA PECTORIS</a:t>
            </a: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:  A Pain and tightness in the chest due to a lack of oxygen to the heart (</a:t>
            </a:r>
            <a:r>
              <a:rPr b="0" lang="en-US" sz="2400" spc="-1" strike="noStrike">
                <a:solidFill>
                  <a:srgbClr val="ff0000"/>
                </a:solidFill>
                <a:latin typeface="Techno"/>
              </a:rPr>
              <a:t>A warning sign that the heart is in distres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halkboard Bold"/>
              </a:rPr>
              <a:t>Heart Attack: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When the heart stops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Chalkboard Bold"/>
              </a:rPr>
              <a:t>fibrillation-</a:t>
            </a: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  the rapid ineffective beating of the heart in one of two main chambers called ventr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10080" y="3733920"/>
            <a:ext cx="2743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631800"/>
            <a:ext cx="7266240" cy="67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halkboard Bold"/>
              </a:rPr>
              <a:t>CONGESTIVE HEART FAILURE:</a:t>
            </a:r>
            <a:r>
              <a:rPr b="0" lang="en-US" sz="2000" spc="-1" strike="noStrike">
                <a:solidFill>
                  <a:srgbClr val="000000"/>
                </a:solidFill>
                <a:latin typeface="Chalkboard Bold"/>
              </a:rPr>
              <a:t>  A slow gradual weakening of the heart muscle from over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halkboar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Stroke: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halkboard"/>
              </a:rPr>
              <a:t>An interruption of the flow of blood to any part of the b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Chalkboard Bold"/>
              </a:rPr>
              <a:t>Warning signs of a stroke are: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-sudden weakness or numbness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of the face, are and leg on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one side of the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loss of speech or trouble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spe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sudden dimness or loss of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vi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usually in just one ey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-  enexplained dizziness or 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halkboard Bold"/>
              </a:rPr>
              <a:t>sudden f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itannic Bold"/>
              </a:rPr>
              <a:t>The most common cause of a stroke is the blocking of a cerebral artery caused by a </a:t>
            </a:r>
            <a:r>
              <a:rPr b="0" lang="en-US" sz="2000" spc="-1" strike="noStrike">
                <a:solidFill>
                  <a:srgbClr val="ff0000"/>
                </a:solidFill>
                <a:latin typeface="Britannic Bold"/>
              </a:rPr>
              <a:t>blood clot (throm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811080"/>
            <a:ext cx="3505320" cy="3303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95280" y="4648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 Extra Bold"/>
              </a:rPr>
              <a:t>Cerebral Hemmorrhaging:  an artery that bursts inside the bra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914400"/>
            <a:ext cx="548640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ff"/>
                </a:solidFill>
                <a:latin typeface="Chalkboard Bold"/>
              </a:rPr>
              <a:t>Lesson 2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408000"/>
                </a:solidFill>
                <a:latin typeface="Bertram LET"/>
              </a:rPr>
              <a:t>Cancer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6:21:24Z</dcterms:created>
  <dc:creator>Chatham County Schools</dc:creator>
  <dc:description/>
  <dc:language>en-US</dc:language>
  <cp:lastModifiedBy>Joe Little</cp:lastModifiedBy>
  <dcterms:modified xsi:type="dcterms:W3CDTF">2008-10-20T18:56:27Z</dcterms:modified>
  <cp:revision>8</cp:revision>
  <dc:subject/>
  <dc:title>PowerPoint Presentation</dc:title>
</cp:coreProperties>
</file>